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CE2-CE99-44FA-BCE4-80DA7A479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CE36-58B1-47E5-AC2A-EDE19FD9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DD1A-BDDA-4894-A175-73A9E933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1C5E-1EE9-49E4-9858-574A7C35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4BD9-3BF5-4AB2-8D98-55D4A3D8A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B1E0-2B9D-4A98-89FC-1F4CB1E2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FDEBE-2877-436B-9984-79F297C8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0422-AF90-4D97-A773-F302CC28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9F6D9-C974-45E2-994D-6063D683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156D-6FF3-443A-9E78-C745AD9D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9223-FBA5-4E89-BC22-2D1BBB5F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6834-12D3-44B6-BD92-CCAC5E73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A9B0-89A9-42A0-8F1E-4BA96773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76DB-8D7D-4308-A2DA-E5041ED5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D98-526E-446B-BC85-47F52353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7A1-687A-4EE5-8345-6C9B8539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FF25-D757-4B3B-B232-67181B30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F1D3-D314-479B-AF20-09D100D4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8817-F823-484B-96BA-052EE99D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45F79-431F-46B5-B7F6-024A09B4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15762-53BD-49D6-92AD-DF92DDC8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31901-DEB7-4DDD-B5FF-336D527F7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A0B-14A0-4772-AE18-D6EF315F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EFAE-5BE5-4C65-854C-2B2C614E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170FB-6E46-4AAE-9419-2C555B59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FD1E-C3EF-4F1E-A41D-7C8AF27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0BB4B-DCA1-458A-94D3-6BFBDB2E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05C71-E690-4540-9A72-F327A78A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65E3D-B711-40D6-80A8-92D08CAB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6079E-302C-4D33-BD4D-8DAFD8EE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596C1-FB15-4D0E-837C-BEF5E66F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F5270-B09C-4971-9F02-33F41B26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8072-0D4A-4B95-972D-6E1F09A4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E67D-699A-4D29-A060-1505F509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1CEDD-015E-4859-8046-89E303CC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AE69A-C206-4186-9FCC-BBC5DA4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2BE8C-132C-414D-8EAF-40DA7D36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B8182-1B77-4FC8-B927-62EA83A7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173E-0AA5-404A-B9CE-AC493570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FE6B4-378E-4C21-A942-365328A2C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8B6BE-3E13-45C2-9E74-8CDFD065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E4234-D51A-44CF-AAE0-36508339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9FB29-22DF-4952-9F2C-F6D34763E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4C0A-B91B-4058-9D10-99C3301E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A63-975C-4021-9947-BDB0C304A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CDB6-5871-4BDF-9345-D35FECD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8A7D-8C34-40EC-956B-197103E9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877-3AE9-4963-BAEA-C80C99AC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0239-36C9-48E1-9603-4A00D0792A25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5BAA-769D-4CE9-B484-F253F48A97BD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57DE-4FE3-4F32-AFBF-1B18918E24A1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A9E6-E8E0-4BD7-B561-B0E7FD89A0E1}" type="slidenum">
              <a:rPr b="0" lang="es-ES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ángulo 1"/>
          <p:cNvSpPr/>
          <p:nvPr/>
        </p:nvSpPr>
        <p:spPr>
          <a:xfrm>
            <a:off x="71280" y="1989000"/>
            <a:ext cx="759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entury Gothic"/>
              </a:rPr>
              <a:t>L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000000"/>
                </a:solidFill>
                <a:latin typeface="Century Gothic"/>
              </a:rPr>
              <a:t>CONSAGRACIÓ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onector recto 7"/>
          <p:cNvSpPr/>
          <p:nvPr/>
        </p:nvSpPr>
        <p:spPr>
          <a:xfrm>
            <a:off x="539640" y="4005360"/>
            <a:ext cx="67690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Conector recto 10"/>
          <p:cNvSpPr/>
          <p:nvPr/>
        </p:nvSpPr>
        <p:spPr>
          <a:xfrm>
            <a:off x="539640" y="3141720"/>
            <a:ext cx="6769080" cy="0"/>
          </a:xfrm>
          <a:prstGeom prst="line">
            <a:avLst/>
          </a:prstGeom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ángulo 1"/>
          <p:cNvSpPr/>
          <p:nvPr/>
        </p:nvSpPr>
        <p:spPr>
          <a:xfrm>
            <a:off x="250920" y="2324160"/>
            <a:ext cx="7129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uesto que esto demanda una transformación completa y la renovación de toda nuestra naturaleza,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bemos entregarnos a él enteram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ángulo 1"/>
          <p:cNvSpPr/>
          <p:nvPr/>
        </p:nvSpPr>
        <p:spPr>
          <a:xfrm>
            <a:off x="846000" y="1844640"/>
            <a:ext cx="682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vuestros pensamientos se pondrán en armonía con É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ángulo 1"/>
          <p:cNvSpPr/>
          <p:nvPr/>
        </p:nvSpPr>
        <p:spPr>
          <a:xfrm>
            <a:off x="504720" y="2060640"/>
            <a:ext cx="70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sear ser bondadosos y santos es rectísim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ángulo 1"/>
          <p:cNvSpPr/>
          <p:nvPr/>
        </p:nvSpPr>
        <p:spPr>
          <a:xfrm>
            <a:off x="755640" y="263700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si sólo llegáis hasta allí de nada os valdr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ángulo 1"/>
          <p:cNvSpPr/>
          <p:nvPr/>
        </p:nvSpPr>
        <p:spPr>
          <a:xfrm>
            <a:off x="755640" y="2492280"/>
            <a:ext cx="68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uchos se perderán esperando y deseando ser cristi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ángulo 1"/>
          <p:cNvSpPr/>
          <p:nvPr/>
        </p:nvSpPr>
        <p:spPr>
          <a:xfrm>
            <a:off x="684360" y="2611440"/>
            <a:ext cx="66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llegan al punto de  dar su voluntad 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ángulo 1"/>
          <p:cNvSpPr/>
          <p:nvPr/>
        </p:nvSpPr>
        <p:spPr>
          <a:xfrm>
            <a:off x="1422360" y="2565360"/>
            <a:ext cx="581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eligen ser cristianos ah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ángulo 1"/>
          <p:cNvSpPr/>
          <p:nvPr/>
        </p:nvSpPr>
        <p:spPr>
          <a:xfrm>
            <a:off x="324000" y="2421000"/>
            <a:ext cx="738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medio del debido ejercicio de la voluntad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uede obrarse un cambio completo en vuestr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ángulo 1"/>
          <p:cNvSpPr/>
          <p:nvPr/>
        </p:nvSpPr>
        <p:spPr>
          <a:xfrm>
            <a:off x="984240" y="2611440"/>
            <a:ext cx="6251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dar vuestra voluntad a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ángulo 1"/>
          <p:cNvSpPr/>
          <p:nvPr/>
        </p:nvSpPr>
        <p:spPr>
          <a:xfrm>
            <a:off x="1042920" y="2421000"/>
            <a:ext cx="646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Os unís con el poder que está sobre todo principado y potest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ángulo 1"/>
          <p:cNvSpPr/>
          <p:nvPr/>
        </p:nvSpPr>
        <p:spPr>
          <a:xfrm>
            <a:off x="630360" y="2852640"/>
            <a:ext cx="696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endréis fuerza de lo alto para sosteneros fir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ángulo 1"/>
          <p:cNvSpPr/>
          <p:nvPr/>
        </p:nvSpPr>
        <p:spPr>
          <a:xfrm>
            <a:off x="341280" y="2565360"/>
            <a:ext cx="703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guerra contra nosotros mismos es la batalla más grande que jamás hayamos ten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ángulo 1"/>
          <p:cNvSpPr/>
          <p:nvPr/>
        </p:nvSpPr>
        <p:spPr>
          <a:xfrm>
            <a:off x="971640" y="234936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rindiéndonos así constantemente a Dios seréis fortalecidos para vivir una vida nueva, es a saber, la vida de la 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ángulo 1"/>
          <p:cNvSpPr/>
          <p:nvPr/>
        </p:nvSpPr>
        <p:spPr>
          <a:xfrm>
            <a:off x="684360" y="2354400"/>
            <a:ext cx="6605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rendirse a sí mismo, entregando todo a la voluntad de Dios, requiere una luc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ángulo 1"/>
          <p:cNvSpPr/>
          <p:nvPr/>
        </p:nvSpPr>
        <p:spPr>
          <a:xfrm>
            <a:off x="395280" y="23544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más para que el alma sea renovada en santidad, debe someterse antes 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ángulo 1"/>
          <p:cNvSpPr/>
          <p:nvPr/>
        </p:nvSpPr>
        <p:spPr>
          <a:xfrm>
            <a:off x="250920" y="2565360"/>
            <a:ext cx="7489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gobierno de Dios no está fundado en una sumisión ciega y en una reglamentación irracional, como Satanás quiere hacerlo apare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ángulo 1"/>
          <p:cNvSpPr/>
          <p:nvPr/>
        </p:nvSpPr>
        <p:spPr>
          <a:xfrm>
            <a:off x="395280" y="242100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contrario, apela al entendimiento y la concien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ángulo 1"/>
          <p:cNvSpPr/>
          <p:nvPr/>
        </p:nvSpPr>
        <p:spPr>
          <a:xfrm>
            <a:off x="720720" y="2211480"/>
            <a:ext cx="6372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Venid, pues, y razonemos juntos!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Isaías 1: 1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ángulo 1"/>
          <p:cNvSpPr/>
          <p:nvPr/>
        </p:nvSpPr>
        <p:spPr>
          <a:xfrm>
            <a:off x="250920" y="234468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la invitación del Creador a todos los seres que ha form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ángulo 1"/>
          <p:cNvSpPr/>
          <p:nvPr/>
        </p:nvSpPr>
        <p:spPr>
          <a:xfrm>
            <a:off x="684360" y="213372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NO fuerza la voluntad de sus criaturas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ángulo 1"/>
          <p:cNvSpPr/>
          <p:nvPr/>
        </p:nvSpPr>
        <p:spPr>
          <a:xfrm>
            <a:off x="539640" y="2492280"/>
            <a:ext cx="705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 no puede aceptar un homenaje que no se le dé voluntaria e inteligenteme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ángulo 1"/>
          <p:cNvSpPr/>
          <p:nvPr/>
        </p:nvSpPr>
        <p:spPr>
          <a:xfrm>
            <a:off x="468360" y="1955880"/>
            <a:ext cx="691200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a promesa de Dios es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Me buscaréis y me hallaréis cuando me buscaréis de todo vuestro corazón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Jeremías 29: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ángulo 1"/>
          <p:cNvSpPr/>
          <p:nvPr/>
        </p:nvSpPr>
        <p:spPr>
          <a:xfrm>
            <a:off x="1042920" y="2349360"/>
            <a:ext cx="631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Una sumisión meramente forzada impedirá todo desarrollo real del entendimiento y del carác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ángulo 1"/>
          <p:cNvSpPr/>
          <p:nvPr/>
        </p:nvSpPr>
        <p:spPr>
          <a:xfrm>
            <a:off x="539640" y="2421000"/>
            <a:ext cx="691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aría del hombre un mero autómata y no es ése el designio del Cre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ángulo 1"/>
          <p:cNvSpPr/>
          <p:nvPr/>
        </p:nvSpPr>
        <p:spPr>
          <a:xfrm>
            <a:off x="468360" y="2243160"/>
            <a:ext cx="6983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desea que el hombre, que es la obra maestra de su poder creador, alcance el mas alto desarrollo po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ángulo 1"/>
          <p:cNvSpPr/>
          <p:nvPr/>
        </p:nvSpPr>
        <p:spPr>
          <a:xfrm>
            <a:off x="1116000" y="1916280"/>
            <a:ext cx="6120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s presenta la gloriosa altura a la cual quiere elevarnos mediante su gra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ángulo 1"/>
          <p:cNvSpPr/>
          <p:nvPr/>
        </p:nvSpPr>
        <p:spPr>
          <a:xfrm>
            <a:off x="1042920" y="1844640"/>
            <a:ext cx="60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s invita a entregarnos a él a fin de que pueda hacer su voluntad en nos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ángulo 1"/>
          <p:cNvSpPr/>
          <p:nvPr/>
        </p:nvSpPr>
        <p:spPr>
          <a:xfrm>
            <a:off x="324000" y="2273400"/>
            <a:ext cx="72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A nosotros nos toca decidir si queremos ser libres de la esclavitud del pecado para participar de la libertad gloriosa de los hijos de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ángulo 1"/>
          <p:cNvSpPr/>
          <p:nvPr/>
        </p:nvSpPr>
        <p:spPr>
          <a:xfrm>
            <a:off x="611280" y="185256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 consagrarnos a Dios, debemos necesariamente abandonar todo aquello que nos separe de é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ángulo 1"/>
          <p:cNvSpPr/>
          <p:nvPr/>
        </p:nvSpPr>
        <p:spPr>
          <a:xfrm>
            <a:off x="684360" y="1916280"/>
            <a:ext cx="676728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esto dice el Salvad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"Así, pues, cada uno de vosotros que no renuncia a todo cuanto posee, no puede ser mi discípulo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Lucas 14: 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ángulo 1"/>
          <p:cNvSpPr/>
          <p:nvPr/>
        </p:nvSpPr>
        <p:spPr>
          <a:xfrm>
            <a:off x="826920" y="2349360"/>
            <a:ext cx="65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bemos dejar todo lo que aleje el corazón de Dio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ángulo 1"/>
          <p:cNvSpPr/>
          <p:nvPr/>
        </p:nvSpPr>
        <p:spPr>
          <a:xfrm>
            <a:off x="1133640" y="2565360"/>
            <a:ext cx="581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tesoros son el ídolo de much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ángulo 1"/>
          <p:cNvSpPr/>
          <p:nvPr/>
        </p:nvSpPr>
        <p:spPr>
          <a:xfrm>
            <a:off x="179280" y="2276640"/>
            <a:ext cx="7345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mos dar a Dios todo el corazón o, de otra manera, el cambio que se ha de efectuar en nosot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ángulo 1"/>
          <p:cNvSpPr/>
          <p:nvPr/>
        </p:nvSpPr>
        <p:spPr>
          <a:xfrm>
            <a:off x="324000" y="2492280"/>
            <a:ext cx="72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amor al dinero y el deseo de las riquezas son la cadena de oro que los tienen sujetos a Satan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ángulo 1"/>
          <p:cNvSpPr/>
          <p:nvPr/>
        </p:nvSpPr>
        <p:spPr>
          <a:xfrm>
            <a:off x="611280" y="2133720"/>
            <a:ext cx="705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Otros adoran la reputación y los honores  del mun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ángulo 1"/>
          <p:cNvSpPr/>
          <p:nvPr/>
        </p:nvSpPr>
        <p:spPr>
          <a:xfrm>
            <a:off x="179280" y="1844640"/>
            <a:ext cx="76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a vida de comodidad egoísta, libre de responsabilidad, es el ídolo de otr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ángulo 1"/>
          <p:cNvSpPr/>
          <p:nvPr/>
        </p:nvSpPr>
        <p:spPr>
          <a:xfrm>
            <a:off x="684360" y="1882800"/>
            <a:ext cx="6588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800" spc="-1" strike="noStrike">
                <a:solidFill>
                  <a:srgbClr val="000000"/>
                </a:solidFill>
                <a:latin typeface="Calibri"/>
              </a:rPr>
              <a:t>Mas deben romperse estos lazos de servidumbr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ángulo 1"/>
          <p:cNvSpPr/>
          <p:nvPr/>
        </p:nvSpPr>
        <p:spPr>
          <a:xfrm>
            <a:off x="179280" y="191628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odemos consagrar una parte de nuestro corazón al Señor y la otra al mun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ángulo 1"/>
          <p:cNvSpPr/>
          <p:nvPr/>
        </p:nvSpPr>
        <p:spPr>
          <a:xfrm>
            <a:off x="414360" y="2421000"/>
            <a:ext cx="69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somos hijos de Dios a menos que lo seamos enteram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ángulo 1"/>
          <p:cNvSpPr/>
          <p:nvPr/>
        </p:nvSpPr>
        <p:spPr>
          <a:xfrm>
            <a:off x="287280" y="1852560"/>
            <a:ext cx="716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y algunos que profesan servir a Dios a la vez que confían en sus propios esfuerzos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ara obedecer su l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ángulo 1"/>
          <p:cNvSpPr/>
          <p:nvPr/>
        </p:nvSpPr>
        <p:spPr>
          <a:xfrm>
            <a:off x="593640" y="2060640"/>
            <a:ext cx="685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formar un carácter recto y asegurarse la salv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ángulo 1"/>
          <p:cNvSpPr/>
          <p:nvPr/>
        </p:nvSpPr>
        <p:spPr>
          <a:xfrm>
            <a:off x="-36360" y="1844640"/>
            <a:ext cx="82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s corazones no son movidos por ningún sentimiento profundo del amor de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ángulo 1"/>
          <p:cNvSpPr/>
          <p:nvPr/>
        </p:nvSpPr>
        <p:spPr>
          <a:xfrm>
            <a:off x="324000" y="2190600"/>
            <a:ext cx="71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no que tratan de ejecutar los deberes de la vida cristiana como una cosa que Dios demanda de ell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 fin de ganar el cie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ángulo 1"/>
          <p:cNvSpPr/>
          <p:nvPr/>
        </p:nvSpPr>
        <p:spPr>
          <a:xfrm>
            <a:off x="395280" y="206064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 el cual hemos de ser transformados conforme a su semejanza, jamás se realizar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ángulo 2"/>
          <p:cNvSpPr/>
          <p:nvPr/>
        </p:nvSpPr>
        <p:spPr>
          <a:xfrm>
            <a:off x="1728720" y="2708280"/>
            <a:ext cx="514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Tal religión no vale 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ángulo 1"/>
          <p:cNvSpPr/>
          <p:nvPr/>
        </p:nvSpPr>
        <p:spPr>
          <a:xfrm>
            <a:off x="287280" y="2241720"/>
            <a:ext cx="71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uando Cristo mora en el corazón, el alma está tan llena de su am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ángulo 1"/>
          <p:cNvSpPr/>
          <p:nvPr/>
        </p:nvSpPr>
        <p:spPr>
          <a:xfrm>
            <a:off x="395280" y="2139840"/>
            <a:ext cx="7129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lena del gozo de su comunión, que se une a él, y pensando en él, se olvida de sí mis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ángulo 1"/>
          <p:cNvSpPr/>
          <p:nvPr/>
        </p:nvSpPr>
        <p:spPr>
          <a:xfrm>
            <a:off x="684360" y="2354400"/>
            <a:ext cx="66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amor de Cristo es el móvil de la a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ángulo 1"/>
          <p:cNvSpPr/>
          <p:nvPr/>
        </p:nvSpPr>
        <p:spPr>
          <a:xfrm>
            <a:off x="250920" y="1989000"/>
            <a:ext cx="7164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quellos que sienten el constructivo amor de Dios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reguntan cuánto es lo menos que pueden darle para satisfacer Sus requerimien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ángulo 1"/>
          <p:cNvSpPr/>
          <p:nvPr/>
        </p:nvSpPr>
        <p:spPr>
          <a:xfrm>
            <a:off x="539640" y="2205000"/>
            <a:ext cx="680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reguntan cuál es la más baja norma acept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ángulo 1"/>
          <p:cNvSpPr/>
          <p:nvPr/>
        </p:nvSpPr>
        <p:spPr>
          <a:xfrm>
            <a:off x="250920" y="2276640"/>
            <a:ext cx="715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que aspiran a una vida de completa conformidad con la voluntad de su Salv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ángulo 1"/>
          <p:cNvSpPr/>
          <p:nvPr/>
        </p:nvSpPr>
        <p:spPr>
          <a:xfrm>
            <a:off x="395280" y="213372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 ardiente deseo entregan todo y manifiestan un interés proporcionado al valor del objeto que bus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ángulo 1"/>
          <p:cNvSpPr/>
          <p:nvPr/>
        </p:nvSpPr>
        <p:spPr>
          <a:xfrm>
            <a:off x="522360" y="177336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profesar pertenecer a Cristo sin sentir amor profundo, es mera charla, árido formalismo y vil t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ángulo 1"/>
          <p:cNvSpPr/>
          <p:nvPr/>
        </p:nvSpPr>
        <p:spPr>
          <a:xfrm>
            <a:off x="611280" y="212868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Crees que es un sacrificio demasiado grande dar todo a Cristo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ángulo 1"/>
          <p:cNvSpPr/>
          <p:nvPr/>
        </p:nvSpPr>
        <p:spPr>
          <a:xfrm>
            <a:off x="468360" y="2492280"/>
            <a:ext cx="684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naturaleza estamos enemistados con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ángulo 1"/>
          <p:cNvSpPr/>
          <p:nvPr/>
        </p:nvSpPr>
        <p:spPr>
          <a:xfrm>
            <a:off x="720720" y="2133720"/>
            <a:ext cx="6299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Haceos a vosotros mismos la pregunta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Qué ha dado Cristo por mí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ángulo 1"/>
          <p:cNvSpPr/>
          <p:nvPr/>
        </p:nvSpPr>
        <p:spPr>
          <a:xfrm>
            <a:off x="971640" y="2276640"/>
            <a:ext cx="624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Hijo de Dios dio todo para nuestra redención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vida, el amor y los sufrimi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ángulo 1"/>
          <p:cNvSpPr/>
          <p:nvPr/>
        </p:nvSpPr>
        <p:spPr>
          <a:xfrm>
            <a:off x="395280" y="2068560"/>
            <a:ext cx="720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Y es posible que nosotros, seres indignos de tan grande amor, rehusemos entregarle nuestro coraz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ángulo 1"/>
          <p:cNvSpPr/>
          <p:nvPr/>
        </p:nvSpPr>
        <p:spPr>
          <a:xfrm>
            <a:off x="522360" y="1677960"/>
            <a:ext cx="685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ada momento de nuestra vida hemos sido participantes de las bendiciones de su gra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ángulo 1"/>
          <p:cNvSpPr/>
          <p:nvPr/>
        </p:nvSpPr>
        <p:spPr>
          <a:xfrm>
            <a:off x="324000" y="2068560"/>
            <a:ext cx="7056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or esta misma razón no podemos comprender plen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las profundidades de la ignorancia y la miseria de que hemos sido salv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ángulo 1"/>
          <p:cNvSpPr/>
          <p:nvPr/>
        </p:nvSpPr>
        <p:spPr>
          <a:xfrm>
            <a:off x="250920" y="2205000"/>
            <a:ext cx="7129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Es posible que veamos a Aquel a quien traspasaron nuestros pecados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y continuemos menospreciando todo su amor y su sacrific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ángulo 1"/>
          <p:cNvSpPr/>
          <p:nvPr/>
        </p:nvSpPr>
        <p:spPr>
          <a:xfrm>
            <a:off x="936720" y="1916280"/>
            <a:ext cx="622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iendo la humillación infinita del Señor de glor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ángulo 1"/>
          <p:cNvSpPr/>
          <p:nvPr/>
        </p:nvSpPr>
        <p:spPr>
          <a:xfrm>
            <a:off x="179280" y="2416320"/>
            <a:ext cx="7201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murmuraremos porque no podemos entrar en la vid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sino a costa de conflictos y humillación prop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ángulo 1"/>
          <p:cNvSpPr/>
          <p:nvPr/>
        </p:nvSpPr>
        <p:spPr>
          <a:xfrm>
            <a:off x="250920" y="256536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uchos corazones orgullosos pregun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¿Por qué necesitamos humillarnos antes de poder tener la seguridad de que somos aceptados por D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ángulo 1"/>
          <p:cNvSpPr/>
          <p:nvPr/>
        </p:nvSpPr>
        <p:spPr>
          <a:xfrm>
            <a:off x="1042920" y="2608200"/>
            <a:ext cx="58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¡Mirad a Cristo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ángulo 1"/>
          <p:cNvSpPr/>
          <p:nvPr/>
        </p:nvSpPr>
        <p:spPr>
          <a:xfrm>
            <a:off x="395280" y="2181240"/>
            <a:ext cx="68407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Espíritu Santo describe nuestra condición en palabras como ést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Muertos en las transgresiones y los pecados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Efesios 2: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ángulo 1"/>
          <p:cNvSpPr/>
          <p:nvPr/>
        </p:nvSpPr>
        <p:spPr>
          <a:xfrm>
            <a:off x="539640" y="2060640"/>
            <a:ext cx="6912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n él no había pecado alguno, era el Príncipe del cielo; mas por causa del hombre se hizo pe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ángulo 1"/>
          <p:cNvSpPr/>
          <p:nvPr/>
        </p:nvSpPr>
        <p:spPr>
          <a:xfrm>
            <a:off x="324000" y="1658880"/>
            <a:ext cx="69847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Con los transgresores fue contado:  y él mismo llevó el pecado de muchos, y por los transgresores intercedió"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Isaías 53: 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ángulo 1"/>
          <p:cNvSpPr/>
          <p:nvPr/>
        </p:nvSpPr>
        <p:spPr>
          <a:xfrm>
            <a:off x="468360" y="2087640"/>
            <a:ext cx="6912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¿Y qué abandonamos cuando damos todo?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Un corazón corrompido para que Jesús lo purif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ángulo 1"/>
          <p:cNvSpPr/>
          <p:nvPr/>
        </p:nvSpPr>
        <p:spPr>
          <a:xfrm>
            <a:off x="395280" y="242100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ara que lo limpie con su propia sangre y para que lo salve con su incomparable amor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ángulo 1"/>
          <p:cNvSpPr/>
          <p:nvPr/>
        </p:nvSpPr>
        <p:spPr>
          <a:xfrm>
            <a:off x="863640" y="2060640"/>
            <a:ext cx="62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¡Y sin embargo, los hombres hallan difícil dejarlo tod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ángulo 1"/>
          <p:cNvSpPr/>
          <p:nvPr/>
        </p:nvSpPr>
        <p:spPr>
          <a:xfrm>
            <a:off x="647640" y="2133720"/>
            <a:ext cx="6661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no nos pide que dejemos nada de lo que es para nuestro mayor provecho rete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ángulo 1"/>
          <p:cNvSpPr/>
          <p:nvPr/>
        </p:nvSpPr>
        <p:spPr>
          <a:xfrm>
            <a:off x="611280" y="242100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 todo lo que hace, tiene presente la felicidad de sus hij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ángulo 1"/>
          <p:cNvSpPr/>
          <p:nvPr/>
        </p:nvSpPr>
        <p:spPr>
          <a:xfrm>
            <a:off x="34920" y="235440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Ojalá que todos aquellos que no han elegido seguir a Cristo pudieran comprender Sus pl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ángulo 1"/>
          <p:cNvSpPr/>
          <p:nvPr/>
        </p:nvSpPr>
        <p:spPr>
          <a:xfrm>
            <a:off x="468360" y="2565360"/>
            <a:ext cx="68403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Él tiene algo muchísimo mejor que ofrecerles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que lo que están buscando por sí mis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ángulo 1"/>
          <p:cNvSpPr/>
          <p:nvPr/>
        </p:nvSpPr>
        <p:spPr>
          <a:xfrm>
            <a:off x="250920" y="2421000"/>
            <a:ext cx="720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hombre hace el mayor perjuicio e injusticia a su propia alm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piensa y obra de un modo contrario a la voluntad de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ángulo 1"/>
          <p:cNvSpPr/>
          <p:nvPr/>
        </p:nvSpPr>
        <p:spPr>
          <a:xfrm>
            <a:off x="468360" y="1596960"/>
            <a:ext cx="684036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la cabeza toda está ya enferma, el corazón todo desfallecido, no queda ya en él cosa sana"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Isaías 1:  5,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ángulo 1"/>
          <p:cNvSpPr/>
          <p:nvPr/>
        </p:nvSpPr>
        <p:spPr>
          <a:xfrm>
            <a:off x="250920" y="1844640"/>
            <a:ext cx="7273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ingún gozo real puede haber en la senda prohibida por Aquel que conoce lo que es mejor y proyecta el bien de sus criatur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ángulo 1"/>
          <p:cNvSpPr/>
          <p:nvPr/>
        </p:nvSpPr>
        <p:spPr>
          <a:xfrm>
            <a:off x="557280" y="2421000"/>
            <a:ext cx="675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l camino de la transgresión es el camino de la miseria y la destr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ángulo 1"/>
          <p:cNvSpPr/>
          <p:nvPr/>
        </p:nvSpPr>
        <p:spPr>
          <a:xfrm>
            <a:off x="179280" y="2276640"/>
            <a:ext cx="748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s un error dar cabida al pensamiento de que Dios se complace en ver sufrir a sus hij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ángulo 1"/>
          <p:cNvSpPr/>
          <p:nvPr/>
        </p:nvSpPr>
        <p:spPr>
          <a:xfrm>
            <a:off x="1008000" y="1916280"/>
            <a:ext cx="630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o el cielo está interesado en la felicidad del homb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ángulo 1"/>
          <p:cNvSpPr/>
          <p:nvPr/>
        </p:nvSpPr>
        <p:spPr>
          <a:xfrm>
            <a:off x="755640" y="224172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uestro Padre celestial no cierra las avenidas del gozo a ninguna de sus criatu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ángulo 1"/>
          <p:cNvSpPr/>
          <p:nvPr/>
        </p:nvSpPr>
        <p:spPr>
          <a:xfrm>
            <a:off x="468360" y="1996920"/>
            <a:ext cx="6983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s requerimientos divinos nos llaman a rehuir todos los placeres que traen consigo sufrimiento y contratiem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ángulo 1"/>
          <p:cNvSpPr/>
          <p:nvPr/>
        </p:nvSpPr>
        <p:spPr>
          <a:xfrm>
            <a:off x="755640" y="2284560"/>
            <a:ext cx="65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que nos cierran la puerta de la felicidad y del cie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ángulo 1"/>
          <p:cNvSpPr/>
          <p:nvPr/>
        </p:nvSpPr>
        <p:spPr>
          <a:xfrm>
            <a:off x="576360" y="2276640"/>
            <a:ext cx="673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Redentor del mundo acepta a los hombres tales como s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ángulo 1"/>
          <p:cNvSpPr/>
          <p:nvPr/>
        </p:nvSpPr>
        <p:spPr>
          <a:xfrm>
            <a:off x="684360" y="2386080"/>
            <a:ext cx="66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con todas sus necesidades imperfecciones y debi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ángulo 1"/>
          <p:cNvSpPr/>
          <p:nvPr/>
        </p:nvSpPr>
        <p:spPr>
          <a:xfrm>
            <a:off x="468360" y="1916280"/>
            <a:ext cx="7128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No solamente los limpiará de pecado y les concederá redención por su sang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ángulo 1"/>
          <p:cNvSpPr/>
          <p:nvPr/>
        </p:nvSpPr>
        <p:spPr>
          <a:xfrm>
            <a:off x="250920" y="2068560"/>
            <a:ext cx="7200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amos enredados fuertemente en los lazos de Satanás, por el cual hem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sido apresados para hacer su voluntad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 Timoteo 2: 2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ángulo 1"/>
          <p:cNvSpPr/>
          <p:nvPr/>
        </p:nvSpPr>
        <p:spPr>
          <a:xfrm>
            <a:off x="539640" y="1916280"/>
            <a:ext cx="703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no que satisfará el anhelo de todos los que consientan en llevar su yugo y su carg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ángulo 1"/>
          <p:cNvSpPr/>
          <p:nvPr/>
        </p:nvSpPr>
        <p:spPr>
          <a:xfrm>
            <a:off x="539640" y="2205000"/>
            <a:ext cx="68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Es su designio impartir paz y descanso a todos los que acudan a él en busca del pan de l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ángulo 1"/>
          <p:cNvSpPr/>
          <p:nvPr/>
        </p:nvSpPr>
        <p:spPr>
          <a:xfrm>
            <a:off x="611280" y="2200320"/>
            <a:ext cx="66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Solamente demanda de nosotros que cumplamos los deberes que guíen nuestros pasos a las alturas de la felic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ángulo 1"/>
          <p:cNvSpPr/>
          <p:nvPr/>
        </p:nvSpPr>
        <p:spPr>
          <a:xfrm>
            <a:off x="720720" y="2060640"/>
            <a:ext cx="65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las cuales los  desobedientes nunca pueden llega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ángulo 1"/>
          <p:cNvSpPr/>
          <p:nvPr/>
        </p:nvSpPr>
        <p:spPr>
          <a:xfrm>
            <a:off x="755640" y="238608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verdadera vida de gozo del alma es tener a Cristo, la esperanza de glo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ángulo 1"/>
          <p:cNvSpPr/>
          <p:nvPr/>
        </p:nvSpPr>
        <p:spPr>
          <a:xfrm>
            <a:off x="846000" y="2492280"/>
            <a:ext cx="653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uchos dicen: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Cómo me entregaré a Dio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ángulo 1"/>
          <p:cNvSpPr/>
          <p:nvPr/>
        </p:nvSpPr>
        <p:spPr>
          <a:xfrm>
            <a:off x="971640" y="2205000"/>
            <a:ext cx="6480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seáis hacer su voluntad, mas sois moralmente déb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ángulo 1"/>
          <p:cNvSpPr/>
          <p:nvPr/>
        </p:nvSpPr>
        <p:spPr>
          <a:xfrm>
            <a:off x="468360" y="2276640"/>
            <a:ext cx="711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ujetos a la duda y dominados por los hábitos de vuestra mala vi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ángulo 1"/>
          <p:cNvSpPr/>
          <p:nvPr/>
        </p:nvSpPr>
        <p:spPr>
          <a:xfrm>
            <a:off x="611280" y="2282760"/>
            <a:ext cx="67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Vuestras promesas y resoluciones son tan frágiles como telas de ar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ángulo 1"/>
          <p:cNvSpPr/>
          <p:nvPr/>
        </p:nvSpPr>
        <p:spPr>
          <a:xfrm>
            <a:off x="936720" y="2273400"/>
            <a:ext cx="622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podéis gobernar vuestros pensamientos, impulsos y afec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ángulo 1"/>
          <p:cNvSpPr/>
          <p:nvPr/>
        </p:nvSpPr>
        <p:spPr>
          <a:xfrm>
            <a:off x="468360" y="24256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os quiere sanarnos y libertar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ángulo 1"/>
          <p:cNvSpPr/>
          <p:nvPr/>
        </p:nvSpPr>
        <p:spPr>
          <a:xfrm>
            <a:off x="539640" y="2205000"/>
            <a:ext cx="69850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l conocimiento de vuestras promesas no cumplidas y de vuestros votos quebrantados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debilita vuestra confianza en vuestra propia sincer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ángulo 1"/>
          <p:cNvSpPr/>
          <p:nvPr/>
        </p:nvSpPr>
        <p:spPr>
          <a:xfrm>
            <a:off x="468360" y="2349360"/>
            <a:ext cx="68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os induce a sentir que Dios no puede aceptaros; mas no necesitáis desesper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ángulo 1"/>
          <p:cNvSpPr/>
          <p:nvPr/>
        </p:nvSpPr>
        <p:spPr>
          <a:xfrm>
            <a:off x="468360" y="2349360"/>
            <a:ext cx="698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 que necesitáis comprender es la verdadera fuerza de la volunt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ángulo 1"/>
          <p:cNvSpPr/>
          <p:nvPr/>
        </p:nvSpPr>
        <p:spPr>
          <a:xfrm>
            <a:off x="684360" y="2492280"/>
            <a:ext cx="66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Este es el poder que gobierna en la naturaleza del hombre: 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poder de decidir o de eleg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ángulo 1"/>
          <p:cNvSpPr/>
          <p:nvPr/>
        </p:nvSpPr>
        <p:spPr>
          <a:xfrm>
            <a:off x="971640" y="2273400"/>
            <a:ext cx="658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odas las cosas dependen de la correcta acción de la volunt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ángulo 1"/>
          <p:cNvSpPr/>
          <p:nvPr/>
        </p:nvSpPr>
        <p:spPr>
          <a:xfrm>
            <a:off x="792000" y="2421000"/>
            <a:ext cx="673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ios ha dado a los hombres el poder de elegir; depende de ellos el ejercer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ángulo 1"/>
          <p:cNvSpPr/>
          <p:nvPr/>
        </p:nvSpPr>
        <p:spPr>
          <a:xfrm>
            <a:off x="757080" y="1832040"/>
            <a:ext cx="6767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podéis cambiar vuestro corazón, ni dar por vosotros mismos sus afectos a Dios;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podéis elegir servir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ángulo 1"/>
          <p:cNvSpPr/>
          <p:nvPr/>
        </p:nvSpPr>
        <p:spPr>
          <a:xfrm>
            <a:off x="395280" y="234936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déis darle vuestra voluntad, para que él obre en vosotros, tanto el querer como el hacer, según su volun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ángulo 1"/>
          <p:cNvSpPr/>
          <p:nvPr/>
        </p:nvSpPr>
        <p:spPr>
          <a:xfrm>
            <a:off x="468360" y="2133720"/>
            <a:ext cx="7343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ese modo vuestra naturaleza entera estará bajo el dominio del Espíritu de Cris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ángulo 1"/>
          <p:cNvSpPr/>
          <p:nvPr/>
        </p:nvSpPr>
        <p:spPr>
          <a:xfrm>
            <a:off x="936720" y="2421000"/>
            <a:ext cx="63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uestros afectos se concentrarán en É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20:00:23Z</dcterms:created>
  <dc:creator>Orlando Rosales</dc:creator>
  <dc:description/>
  <dc:language>en-US</dc:language>
  <cp:lastModifiedBy>Karina de Martin</cp:lastModifiedBy>
  <dcterms:modified xsi:type="dcterms:W3CDTF">2017-03-12T17:16:50Z</dcterms:modified>
  <cp:revision>40</cp:revision>
  <dc:subject/>
  <dc:title>CAPÍTULO 5. La Consagración </dc:title>
</cp:coreProperties>
</file>